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32600" cy="9979025"/>
</p:presentation>
</file>

<file path=ppt/commentAuthors.xml><?xml version="1.0" encoding="utf-8"?>
<p:cmAuthorLst xmlns:p="http://schemas.openxmlformats.org/presentationml/2006/main">
  <p:cmAuthor id="0" name="pc" initials="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<Relationship Id="rId4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0-04-26T10:36:07.343000000" idx="1">
    <p:pos x="418" y="430"/>
    <p:text>Vitamina K: tocoferoles, anillo aromático reacciona con EROS
dolicoles: alcoholes isoprenoides utilizados para activar uniones glucosidicas, interaccina con lipidos de membrana anclando glúcidos, too en uniones polisacáridas en glicoproteinas
Vitamina D: Colecalciferol, el dvdo. 1,25-dihidroxicolecalciferol es una hormona que regula la captación de calcio en intestinoy de Ca y PO4 en tejido óse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4877-B2EF-4FAC-8B7C-5A56ED7947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01AD-D89C-4F63-AA0D-106B9CC171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1160" y="4741920"/>
            <a:ext cx="50119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77A-2D50-41FC-A962-7B65A52E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E1D-5AB3-4DCF-838B-E0A60AB0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BA9-0F1B-404A-B60C-5E288C0D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F26-FD57-410A-BC09-76729209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396-83A7-49DC-9243-296CF441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8F5-5754-4730-A3AE-8840BEAB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BEA-51B8-4654-AD35-78A53C24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8DD-D5A3-44BA-8AA4-FB5EB68A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092-F5B9-4115-94D9-1919797B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BA1-DD77-49B6-9A05-0516144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C07-7832-4570-B8B4-AD6CC777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1EB-E9FA-470F-A6DD-BBB7BC2B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83A0-BE0C-4CD6-B511-563B85C128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Green Sea Turt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dencia de Acetil CoA , Enzimas y Poder re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771640" y="63914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má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5867280" y="4653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ltienz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9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109" name="Group 10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110" name="Group 11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111" name="AutoShape 12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Text Box 13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ACET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14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MALON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5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Oval 16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AutoShape 17"/>
            <p:cNvSpPr/>
            <p:nvPr/>
          </p:nvSpPr>
          <p:spPr>
            <a:xfrm rot="5278800">
              <a:off x="7619760" y="2512440"/>
              <a:ext cx="1066320" cy="30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9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120" name="Text Box 21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3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4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5508720" y="3540240"/>
              <a:ext cx="503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TP      ADP + 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7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28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5508720" y="4292640"/>
            <a:ext cx="3635280" cy="429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796000" y="6026040"/>
            <a:ext cx="272736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Vegetales por acción de la 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8738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951280" y="1773360"/>
            <a:ext cx="9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508720" y="206064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11280" y="2924280"/>
            <a:ext cx="748980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691A-8D5D-49FA-8E05-BAE19F01AD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63640" y="333360"/>
            <a:ext cx="7427880" cy="93492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39640" y="1700280"/>
            <a:ext cx="8317080" cy="43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curre una carboxilación que utiliza H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fuente de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la enzima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usa biotina (vit B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 como co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principal sitio de regulación de la síntesis de ac. Gr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ACETCOA"/>
          <p:cNvPicPr/>
          <p:nvPr/>
        </p:nvPicPr>
        <p:blipFill>
          <a:blip r:embed="rId1"/>
          <a:srcRect l="0" t="0" r="0" b="17643"/>
          <a:stretch/>
        </p:blipFill>
        <p:spPr>
          <a:xfrm>
            <a:off x="250920" y="2565360"/>
            <a:ext cx="2011320" cy="1285920"/>
          </a:xfrm>
          <a:prstGeom prst="rect">
            <a:avLst/>
          </a:prstGeom>
          <a:ln w="0">
            <a:noFill/>
          </a:ln>
        </p:spPr>
      </p:pic>
      <p:sp>
        <p:nvSpPr>
          <p:cNvPr id="144" name="Line 9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TP      ADP + P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149" name="Picture 14" descr="MALONCOA"/>
            <p:cNvPicPr/>
            <p:nvPr/>
          </p:nvPicPr>
          <p:blipFill>
            <a:blip r:embed="rId2"/>
            <a:srcRect l="0" t="0" r="17937" b="18488"/>
            <a:stretch/>
          </p:blipFill>
          <p:spPr>
            <a:xfrm>
              <a:off x="5292720" y="2276640"/>
              <a:ext cx="345744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5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16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8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í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3"/>
          <p:cNvSpPr/>
          <p:nvPr/>
        </p:nvSpPr>
        <p:spPr>
          <a:xfrm>
            <a:off x="5003640" y="4653000"/>
            <a:ext cx="863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4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5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Ac.G. de cad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l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3132000" y="4437000"/>
            <a:ext cx="579600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n Vegetales (+) por aumento de pH y [Mg] en el estroma, proceso que se produce durante la iluminación de la p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3132000" y="4575240"/>
            <a:ext cx="579600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Arial"/>
              </a:rPr>
              <a:t>En Bacterias (+) por nucleótidos de guanina que coordinan el crecimiento celular en la formación de membr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1 CuadroTexto"/>
          <p:cNvSpPr/>
          <p:nvPr/>
        </p:nvSpPr>
        <p:spPr>
          <a:xfrm>
            <a:off x="428760" y="571680"/>
            <a:ext cx="8358120" cy="6066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MPLEJO ENZIMA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PROTEINA TRANSPORTADORA  DE ACILO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(ACP Ó P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ENZIMA CONDENSANTE  (EC Ó 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TRASNFERASAS (AT y 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- Acil-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- Malonil-transferasa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REDUCTASAS (KR y 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- Ceto Reduc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- Enoil reduc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2438280" y="1709640"/>
            <a:ext cx="4483080" cy="4815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826920" y="260280"/>
            <a:ext cx="7705800" cy="106884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JO MULTIENZIMATICO   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CIDO GRAS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6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124000" y="4797360"/>
            <a:ext cx="4103640" cy="947160"/>
          </a:xfrm>
          <a:prstGeom prst="rect">
            <a:avLst/>
          </a:prstGeom>
          <a:solidFill>
            <a:srgbClr val="f7f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 ACETIL-CoA y 7 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3"/>
          <p:cNvGrpSpPr/>
          <p:nvPr/>
        </p:nvGrpSpPr>
        <p:grpSpPr>
          <a:xfrm>
            <a:off x="108000" y="3284640"/>
            <a:ext cx="8567640" cy="360360"/>
            <a:chOff x="108000" y="3284640"/>
            <a:chExt cx="8567640" cy="360360"/>
          </a:xfrm>
        </p:grpSpPr>
        <p:sp>
          <p:nvSpPr>
            <p:cNvPr id="187" name="AutoShape 22"/>
            <p:cNvSpPr/>
            <p:nvPr/>
          </p:nvSpPr>
          <p:spPr>
            <a:xfrm flipV="1" rot="16200000">
              <a:off x="468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4"/>
            <p:cNvSpPr/>
            <p:nvPr/>
          </p:nvSpPr>
          <p:spPr>
            <a:xfrm flipV="1" rot="16200000">
              <a:off x="154728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5"/>
            <p:cNvSpPr/>
            <p:nvPr/>
          </p:nvSpPr>
          <p:spPr>
            <a:xfrm flipV="1" rot="16200000">
              <a:off x="478800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6"/>
            <p:cNvSpPr/>
            <p:nvPr/>
          </p:nvSpPr>
          <p:spPr>
            <a:xfrm flipV="1" rot="16200000">
              <a:off x="5940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7"/>
            <p:cNvSpPr/>
            <p:nvPr/>
          </p:nvSpPr>
          <p:spPr>
            <a:xfrm flipV="1" rot="16200000">
              <a:off x="6948000" y="299700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8"/>
            <p:cNvSpPr/>
            <p:nvPr/>
          </p:nvSpPr>
          <p:spPr>
            <a:xfrm flipV="1" rot="16200000">
              <a:off x="802800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9"/>
            <p:cNvSpPr/>
            <p:nvPr/>
          </p:nvSpPr>
          <p:spPr>
            <a:xfrm flipV="1" rot="16200000">
              <a:off x="262836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30"/>
            <p:cNvSpPr/>
            <p:nvPr/>
          </p:nvSpPr>
          <p:spPr>
            <a:xfrm flipV="1" rot="16200000">
              <a:off x="370836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31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2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755640" y="3716280"/>
            <a:ext cx="1728720" cy="1297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539640" y="115920"/>
            <a:ext cx="8136000" cy="1068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QUEMA GENERAL DE LA BIOSINTESIS DE ACIDO PALMI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2"/>
          <p:cNvSpPr/>
          <p:nvPr/>
        </p:nvSpPr>
        <p:spPr>
          <a:xfrm>
            <a:off x="34920" y="5445000"/>
            <a:ext cx="8964720" cy="863640"/>
          </a:xfrm>
          <a:custGeom>
            <a:avLst/>
            <a:gdLst>
              <a:gd name="textAreaLeft" fmla="*/ 151560 w 8964720"/>
              <a:gd name="textAreaRight" fmla="*/ 8813160 w 8964720"/>
              <a:gd name="textAreaTop" fmla="*/ 371880 h 863640"/>
              <a:gd name="textAreaBottom" fmla="*/ 4917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9305"/>
                </a:moveTo>
                <a:lnTo>
                  <a:pt x="18958" y="9305"/>
                </a:lnTo>
                <a:lnTo>
                  <a:pt x="18958" y="0"/>
                </a:lnTo>
                <a:lnTo>
                  <a:pt x="21600" y="10800"/>
                </a:lnTo>
                <a:lnTo>
                  <a:pt x="18958" y="21600"/>
                </a:lnTo>
                <a:lnTo>
                  <a:pt x="18958" y="12295"/>
                </a:lnTo>
                <a:lnTo>
                  <a:pt x="0" y="12295"/>
                </a:lnTo>
                <a:lnTo>
                  <a:pt x="366" y="10800"/>
                </a:lnTo>
                <a:lnTo>
                  <a:pt x="0" y="930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9"/>
          <p:cNvSpPr/>
          <p:nvPr/>
        </p:nvSpPr>
        <p:spPr>
          <a:xfrm>
            <a:off x="250920" y="3573360"/>
            <a:ext cx="8101080" cy="2305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CUANTAS ACETIL-CoA SE NECESITAN COMO TAL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Y CUANTAS PARA SINTETIZAR MALO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40"/>
          <p:cNvSpPr/>
          <p:nvPr/>
        </p:nvSpPr>
        <p:spPr>
          <a:xfrm>
            <a:off x="250920" y="2997360"/>
            <a:ext cx="8172360" cy="328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La biosíntesis ocurre de derecha a izqui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o de izquierda a derecha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1"/>
          <p:cNvSpPr/>
          <p:nvPr/>
        </p:nvSpPr>
        <p:spPr>
          <a:xfrm>
            <a:off x="539640" y="1557360"/>
            <a:ext cx="2376720" cy="576360"/>
          </a:xfrm>
          <a:prstGeom prst="wedgeRectCallout">
            <a:avLst>
              <a:gd name="adj1" fmla="val -56814"/>
              <a:gd name="adj2" fmla="val 94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Quien aporta los carbonos 15 y 16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2"/>
          <p:cNvSpPr/>
          <p:nvPr/>
        </p:nvSpPr>
        <p:spPr>
          <a:xfrm>
            <a:off x="5003640" y="1341360"/>
            <a:ext cx="3168720" cy="863640"/>
          </a:xfrm>
          <a:prstGeom prst="wedgeRectCallout">
            <a:avLst>
              <a:gd name="adj1" fmla="val -66481"/>
              <a:gd name="adj2" fmla="val 71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uales carbonos son aportados por el carbonilo de malonato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1"/>
          <p:cNvSpPr/>
          <p:nvPr/>
        </p:nvSpPr>
        <p:spPr>
          <a:xfrm>
            <a:off x="6804000" y="328464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203640" y="3141720"/>
            <a:ext cx="23335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-cetoac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6227640" y="2637000"/>
            <a:ext cx="2519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7093080" y="1413000"/>
            <a:ext cx="180000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3708360" y="620640"/>
            <a:ext cx="27352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ff"/>
                </a:solidFill>
                <a:latin typeface="Arial"/>
              </a:rPr>
              <a:t>Ez. conden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468360" y="2708280"/>
            <a:ext cx="2160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cetoac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324000" y="4149720"/>
            <a:ext cx="2590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3132000" y="4437000"/>
            <a:ext cx="233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3-OH-acil-ACP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6227640" y="422100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468360" y="568656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3203640" y="5902200"/>
            <a:ext cx="1841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6012000" y="5661000"/>
            <a:ext cx="2333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0" y="0"/>
            <a:ext cx="208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º CIC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2"/>
          <p:cNvGrpSpPr/>
          <p:nvPr/>
        </p:nvGrpSpPr>
        <p:grpSpPr>
          <a:xfrm>
            <a:off x="395280" y="907920"/>
            <a:ext cx="7561440" cy="943920"/>
            <a:chOff x="395280" y="907920"/>
            <a:chExt cx="7561440" cy="943920"/>
          </a:xfrm>
        </p:grpSpPr>
        <p:sp>
          <p:nvSpPr>
            <p:cNvPr id="223" name="Text Box 19"/>
            <p:cNvSpPr/>
            <p:nvPr/>
          </p:nvSpPr>
          <p:spPr>
            <a:xfrm>
              <a:off x="5796000" y="907920"/>
              <a:ext cx="21607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395280" y="907920"/>
              <a:ext cx="3384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A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3"/>
            <p:cNvSpPr/>
            <p:nvPr/>
          </p:nvSpPr>
          <p:spPr>
            <a:xfrm>
              <a:off x="4500720" y="1411200"/>
              <a:ext cx="1871640" cy="44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S-EC + </a:t>
              </a: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1"/>
            <p:cNvSpPr/>
            <p:nvPr/>
          </p:nvSpPr>
          <p:spPr>
            <a:xfrm>
              <a:off x="4067280" y="105228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2"/>
            <p:cNvSpPr/>
            <p:nvPr/>
          </p:nvSpPr>
          <p:spPr>
            <a:xfrm>
              <a:off x="4788000" y="1052280"/>
              <a:ext cx="144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33"/>
          <p:cNvSpPr/>
          <p:nvPr/>
        </p:nvSpPr>
        <p:spPr>
          <a:xfrm>
            <a:off x="2771640" y="285264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4"/>
          <p:cNvSpPr/>
          <p:nvPr/>
        </p:nvSpPr>
        <p:spPr>
          <a:xfrm>
            <a:off x="2916360" y="436572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732720" y="4797360"/>
            <a:ext cx="194472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6"/>
          <p:cNvSpPr/>
          <p:nvPr/>
        </p:nvSpPr>
        <p:spPr>
          <a:xfrm>
            <a:off x="2916360" y="59500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6372360" y="626256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8"/>
          <p:cNvSpPr/>
          <p:nvPr/>
        </p:nvSpPr>
        <p:spPr>
          <a:xfrm>
            <a:off x="2843280" y="220500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9"/>
          <p:cNvSpPr/>
          <p:nvPr/>
        </p:nvSpPr>
        <p:spPr>
          <a:xfrm>
            <a:off x="2843280" y="530064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0"/>
          <p:cNvSpPr/>
          <p:nvPr/>
        </p:nvSpPr>
        <p:spPr>
          <a:xfrm>
            <a:off x="4788000" y="2205000"/>
            <a:ext cx="1295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1"/>
          <p:cNvSpPr/>
          <p:nvPr/>
        </p:nvSpPr>
        <p:spPr>
          <a:xfrm>
            <a:off x="4716360" y="5300640"/>
            <a:ext cx="1295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3"/>
          <p:cNvSpPr/>
          <p:nvPr/>
        </p:nvSpPr>
        <p:spPr>
          <a:xfrm>
            <a:off x="4067280" y="2637000"/>
            <a:ext cx="792000" cy="21564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4"/>
          <p:cNvSpPr/>
          <p:nvPr/>
        </p:nvSpPr>
        <p:spPr>
          <a:xfrm>
            <a:off x="4067280" y="57340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25 Grupo"/>
          <p:cNvGrpSpPr/>
          <p:nvPr/>
        </p:nvGrpSpPr>
        <p:grpSpPr>
          <a:xfrm>
            <a:off x="142920" y="500040"/>
            <a:ext cx="8858160" cy="1870200"/>
            <a:chOff x="142920" y="500040"/>
            <a:chExt cx="8858160" cy="1870200"/>
          </a:xfrm>
        </p:grpSpPr>
        <p:sp>
          <p:nvSpPr>
            <p:cNvPr id="240" name="Text Box 3"/>
            <p:cNvSpPr/>
            <p:nvPr/>
          </p:nvSpPr>
          <p:spPr>
            <a:xfrm>
              <a:off x="142920" y="500040"/>
              <a:ext cx="8858160" cy="1870200"/>
            </a:xfrm>
            <a:prstGeom prst="rect">
              <a:avLst/>
            </a:prstGeom>
            <a:noFill/>
            <a:ln w="93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E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</a:t>
              </a:r>
              <a:r>
                <a:rPr b="1" i="1" lang="es-PE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i="1" lang="es-PE" sz="2000" spc="-1" strike="noStrike">
                  <a:solidFill>
                    <a:srgbClr val="0000ff"/>
                  </a:solidFill>
                  <a:latin typeface="Arial"/>
                </a:rPr>
                <a:t>-Cetoacil-reduc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PE" sz="20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0" lang="es-PE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–C-SACP + </a:t>
              </a: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PE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PE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-CH-C</a:t>
              </a:r>
              <a:r>
                <a:rPr b="0" lang="es-PE" sz="2000" spc="-1" strike="noStrike">
                  <a:solidFill>
                    <a:srgbClr val="c00000"/>
                  </a:solidFill>
                  <a:latin typeface="Arial"/>
                </a:rPr>
                <a:t>H</a:t>
              </a:r>
              <a:r>
                <a:rPr b="0" lang="es-PE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-C-SACP+</a:t>
              </a: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PE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            O                                                     </a:t>
              </a:r>
              <a:r>
                <a:rPr b="0" lang="es-ES_tradnl" sz="2000" spc="-1" strike="noStrike">
                  <a:solidFill>
                    <a:srgbClr val="c00000"/>
                  </a:solidFill>
                  <a:latin typeface="Arial"/>
                </a:rPr>
                <a:t>O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Acetoacetil-S-ACP                                  </a:t>
              </a:r>
              <a:r>
                <a:rPr b="1" lang="es-P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-3-Hidroxibutiril-S-ACP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4 Flecha derecha"/>
            <p:cNvSpPr/>
            <p:nvPr/>
          </p:nvSpPr>
          <p:spPr>
            <a:xfrm>
              <a:off x="4643280" y="1084320"/>
              <a:ext cx="428400" cy="142560"/>
            </a:xfrm>
            <a:prstGeom prst="rightArrow">
              <a:avLst>
                <a:gd name="adj1" fmla="val 50000"/>
                <a:gd name="adj2" fmla="val 50098"/>
              </a:avLst>
            </a:prstGeom>
            <a:solidFill>
              <a:srgbClr val="19194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5 CuadroTexto"/>
            <p:cNvSpPr/>
            <p:nvPr/>
          </p:nvSpPr>
          <p:spPr>
            <a:xfrm rot="5400000">
              <a:off x="687600" y="118296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 Narrow"/>
                </a:rPr>
                <a:t>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6 CuadroTexto"/>
            <p:cNvSpPr/>
            <p:nvPr/>
          </p:nvSpPr>
          <p:spPr>
            <a:xfrm rot="5400000">
              <a:off x="1687680" y="118296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 Narrow"/>
                </a:rPr>
                <a:t>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7 CuadroTexto"/>
            <p:cNvSpPr/>
            <p:nvPr/>
          </p:nvSpPr>
          <p:spPr>
            <a:xfrm rot="5400000">
              <a:off x="6545520" y="118296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 Narrow"/>
                </a:rPr>
                <a:t>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8 CuadroTexto"/>
            <p:cNvSpPr/>
            <p:nvPr/>
          </p:nvSpPr>
          <p:spPr>
            <a:xfrm rot="5400000">
              <a:off x="5527440" y="12006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 Narrow"/>
                </a:rPr>
                <a:t>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27 Grupo"/>
          <p:cNvGrpSpPr/>
          <p:nvPr/>
        </p:nvGrpSpPr>
        <p:grpSpPr>
          <a:xfrm>
            <a:off x="285840" y="2571840"/>
            <a:ext cx="8501040" cy="2131920"/>
            <a:chOff x="285840" y="2571840"/>
            <a:chExt cx="8501040" cy="2131920"/>
          </a:xfrm>
        </p:grpSpPr>
        <p:grpSp>
          <p:nvGrpSpPr>
            <p:cNvPr id="247" name="26 Grupo"/>
            <p:cNvGrpSpPr/>
            <p:nvPr/>
          </p:nvGrpSpPr>
          <p:grpSpPr>
            <a:xfrm>
              <a:off x="285840" y="2571840"/>
              <a:ext cx="8501040" cy="2131920"/>
              <a:chOff x="285840" y="2571840"/>
              <a:chExt cx="8501040" cy="2131920"/>
            </a:xfrm>
          </p:grpSpPr>
          <p:sp>
            <p:nvSpPr>
              <p:cNvPr id="248" name="Text Box 6"/>
              <p:cNvSpPr/>
              <p:nvPr/>
            </p:nvSpPr>
            <p:spPr>
              <a:xfrm>
                <a:off x="285840" y="2571840"/>
                <a:ext cx="8501040" cy="2131920"/>
              </a:xfrm>
              <a:prstGeom prst="rect">
                <a:avLst/>
              </a:prstGeom>
              <a:noFill/>
              <a:ln w="12600">
                <a:solidFill>
                  <a:srgbClr val="2626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</a:t>
                </a:r>
                <a:r>
                  <a:rPr b="1" i="1" lang="es-ES_tradnl" sz="2000" spc="-1" strike="noStrike">
                    <a:solidFill>
                      <a:srgbClr val="0000ff"/>
                    </a:solidFill>
                    <a:latin typeface="Arial"/>
                  </a:rPr>
                  <a:t>-3-Hidroxiacil-deshidratasa</a:t>
                </a:r>
                <a:r>
                  <a:rPr b="0" i="1" lang="es-ES_tradnl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PE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-CH-CH</a:t>
                </a:r>
                <a:r>
                  <a:rPr b="0" lang="es-PE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- C-  SACP 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          CH</a:t>
                </a:r>
                <a:r>
                  <a:rPr b="0" lang="es-PE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=CH-C - SACP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  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2000" spc="-1" strike="noStrike">
                    <a:solidFill>
                      <a:srgbClr val="c00000"/>
                    </a:solidFill>
                    <a:latin typeface="Arial"/>
                  </a:rPr>
                  <a:t>H</a:t>
                </a:r>
                <a:r>
                  <a:rPr b="0" lang="es-ES_tradnl" sz="2000" spc="-1" strike="noStrike" baseline="-25000">
                    <a:solidFill>
                      <a:srgbClr val="c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c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                   O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s-PE" sz="2000" spc="-1" strike="noStrike">
                    <a:solidFill>
                      <a:srgbClr val="000000"/>
                    </a:solidFill>
                    <a:latin typeface="Arial"/>
                  </a:rPr>
                  <a:t>-3-Hidroxibutiril-S-ACP  </a:t>
                </a:r>
                <a:r>
                  <a:rPr b="1" lang="es-P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s-P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s-PE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PE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PE" sz="2000" spc="-1" strike="noStrike">
                    <a:solidFill>
                      <a:srgbClr val="000000"/>
                    </a:solidFill>
                    <a:latin typeface="Arial"/>
                  </a:rPr>
                  <a:t> trans butenoil AC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22 Grupo"/>
              <p:cNvGrpSpPr/>
              <p:nvPr/>
            </p:nvGrpSpPr>
            <p:grpSpPr>
              <a:xfrm>
                <a:off x="3429000" y="3214800"/>
                <a:ext cx="1058040" cy="180720"/>
                <a:chOff x="3429000" y="3214800"/>
                <a:chExt cx="1058040" cy="180720"/>
              </a:xfrm>
            </p:grpSpPr>
            <p:sp>
              <p:nvSpPr>
                <p:cNvPr id="250" name="Line 11"/>
                <p:cNvSpPr/>
                <p:nvPr/>
              </p:nvSpPr>
              <p:spPr>
                <a:xfrm flipV="1">
                  <a:off x="3429000" y="3214800"/>
                  <a:ext cx="105804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2"/>
                <p:cNvSpPr/>
                <p:nvPr/>
              </p:nvSpPr>
              <p:spPr>
                <a:xfrm>
                  <a:off x="3823920" y="3214800"/>
                  <a:ext cx="131400" cy="18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Group 8"/>
            <p:cNvGrpSpPr/>
            <p:nvPr/>
          </p:nvGrpSpPr>
          <p:grpSpPr>
            <a:xfrm>
              <a:off x="2000160" y="3346560"/>
              <a:ext cx="66240" cy="93240"/>
              <a:chOff x="2000160" y="3346560"/>
              <a:chExt cx="66240" cy="93240"/>
            </a:xfrm>
          </p:grpSpPr>
          <p:sp>
            <p:nvSpPr>
              <p:cNvPr id="253" name="Line 9"/>
              <p:cNvSpPr/>
              <p:nvPr/>
            </p:nvSpPr>
            <p:spPr>
              <a:xfrm>
                <a:off x="2066400" y="3346560"/>
                <a:ext cx="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0"/>
              <p:cNvSpPr/>
              <p:nvPr/>
            </p:nvSpPr>
            <p:spPr>
              <a:xfrm>
                <a:off x="2000160" y="3348720"/>
                <a:ext cx="0" cy="9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17"/>
            <p:cNvSpPr/>
            <p:nvPr/>
          </p:nvSpPr>
          <p:spPr>
            <a:xfrm>
              <a:off x="1000080" y="334656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"/>
            <p:cNvGrpSpPr/>
            <p:nvPr/>
          </p:nvGrpSpPr>
          <p:grpSpPr>
            <a:xfrm>
              <a:off x="6286680" y="3346560"/>
              <a:ext cx="66240" cy="93240"/>
              <a:chOff x="6286680" y="3346560"/>
              <a:chExt cx="66240" cy="93240"/>
            </a:xfrm>
          </p:grpSpPr>
          <p:sp>
            <p:nvSpPr>
              <p:cNvPr id="257" name="Line 14"/>
              <p:cNvSpPr/>
              <p:nvPr/>
            </p:nvSpPr>
            <p:spPr>
              <a:xfrm>
                <a:off x="6352920" y="3346560"/>
                <a:ext cx="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5"/>
              <p:cNvSpPr/>
              <p:nvPr/>
            </p:nvSpPr>
            <p:spPr>
              <a:xfrm>
                <a:off x="6286680" y="3348720"/>
                <a:ext cx="0" cy="9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Text Box 3"/>
          <p:cNvSpPr/>
          <p:nvPr/>
        </p:nvSpPr>
        <p:spPr>
          <a:xfrm>
            <a:off x="142920" y="4844880"/>
            <a:ext cx="8858160" cy="187020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s-PE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PE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 trans </a:t>
            </a:r>
            <a:r>
              <a:rPr b="1" i="1" lang="es-PE" sz="2000" spc="-1" strike="noStrike">
                <a:solidFill>
                  <a:srgbClr val="0000ff"/>
                </a:solidFill>
                <a:latin typeface="Arial"/>
              </a:rPr>
              <a:t>-enoil-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s-PE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–CH=CH–C-SACP +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ADPH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s-P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        CH</a:t>
            </a:r>
            <a:r>
              <a:rPr b="0" lang="es-P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s-P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s-P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-C-SACP+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P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                                                                    </a:t>
            </a:r>
            <a:r>
              <a:rPr b="0" lang="es-P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P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trans butenoil ACP                                        </a:t>
            </a:r>
            <a:r>
              <a:rPr b="1" lang="es-PE" sz="2000" spc="-1" strike="noStrike" u="sng">
                <a:solidFill>
                  <a:srgbClr val="c00000"/>
                </a:solidFill>
                <a:uFillTx/>
                <a:latin typeface="Arial"/>
              </a:rPr>
              <a:t>Butiril-S-AC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0 Flecha derecha"/>
          <p:cNvSpPr/>
          <p:nvPr/>
        </p:nvSpPr>
        <p:spPr>
          <a:xfrm>
            <a:off x="4786200" y="529920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19194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2 CuadroTexto"/>
          <p:cNvSpPr/>
          <p:nvPr/>
        </p:nvSpPr>
        <p:spPr>
          <a:xfrm rot="5400000">
            <a:off x="1688760" y="552780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 Narrow"/>
              </a:rPr>
              <a:t>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3 CuadroTexto"/>
          <p:cNvSpPr/>
          <p:nvPr/>
        </p:nvSpPr>
        <p:spPr>
          <a:xfrm rot="5400000">
            <a:off x="6748560" y="552780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 Narrow"/>
              </a:rPr>
              <a:t>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5 Elipse"/>
          <p:cNvSpPr/>
          <p:nvPr/>
        </p:nvSpPr>
        <p:spPr>
          <a:xfrm>
            <a:off x="673200" y="861840"/>
            <a:ext cx="469800" cy="924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36 Elipse"/>
          <p:cNvSpPr/>
          <p:nvPr/>
        </p:nvSpPr>
        <p:spPr>
          <a:xfrm>
            <a:off x="5572080" y="928800"/>
            <a:ext cx="571680" cy="8571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37 Elipse"/>
          <p:cNvSpPr/>
          <p:nvPr/>
        </p:nvSpPr>
        <p:spPr>
          <a:xfrm>
            <a:off x="5286240" y="2786040"/>
            <a:ext cx="928800" cy="8571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38 Elipse"/>
          <p:cNvSpPr/>
          <p:nvPr/>
        </p:nvSpPr>
        <p:spPr>
          <a:xfrm>
            <a:off x="5715000" y="5143680"/>
            <a:ext cx="571680" cy="8571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7C0E-877D-4C3B-AE68-61DDB77FDD48}" type="slidenum">
              <a:rPr b="0" lang="es-E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358920" y="260280"/>
            <a:ext cx="8424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GENERAL DE LA BIOSÍNTESIS DE PALMI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0" y="1484280"/>
            <a:ext cx="9144000" cy="5373720"/>
            <a:chOff x="0" y="1484280"/>
            <a:chExt cx="9144000" cy="5373720"/>
          </a:xfrm>
        </p:grpSpPr>
        <p:sp>
          <p:nvSpPr>
            <p:cNvPr id="270" name="Rectangle 7"/>
            <p:cNvSpPr/>
            <p:nvPr/>
          </p:nvSpPr>
          <p:spPr>
            <a:xfrm>
              <a:off x="0" y="1484280"/>
              <a:ext cx="9144000" cy="5373720"/>
            </a:xfrm>
            <a:prstGeom prst="rect">
              <a:avLst/>
            </a:prstGeom>
            <a:solidFill>
              <a:srgbClr val="89b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6" descr=""/>
            <p:cNvPicPr/>
            <p:nvPr/>
          </p:nvPicPr>
          <p:blipFill>
            <a:blip r:embed="rId1"/>
            <a:stretch/>
          </p:blipFill>
          <p:spPr>
            <a:xfrm>
              <a:off x="384120" y="1844640"/>
              <a:ext cx="8375760" cy="461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Text Box 8"/>
          <p:cNvSpPr/>
          <p:nvPr/>
        </p:nvSpPr>
        <p:spPr>
          <a:xfrm>
            <a:off x="611280" y="4292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5"/>
          <p:cNvGrpSpPr/>
          <p:nvPr/>
        </p:nvGrpSpPr>
        <p:grpSpPr>
          <a:xfrm>
            <a:off x="539640" y="4581360"/>
            <a:ext cx="5327640" cy="1800360"/>
            <a:chOff x="539640" y="4581360"/>
            <a:chExt cx="5327640" cy="1800360"/>
          </a:xfrm>
        </p:grpSpPr>
        <p:sp>
          <p:nvSpPr>
            <p:cNvPr id="274" name="Text Box 40"/>
            <p:cNvSpPr/>
            <p:nvPr/>
          </p:nvSpPr>
          <p:spPr>
            <a:xfrm>
              <a:off x="539640" y="4581360"/>
              <a:ext cx="324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utir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1908000" y="5084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9"/>
            <p:cNvSpPr/>
            <p:nvPr/>
          </p:nvSpPr>
          <p:spPr>
            <a:xfrm>
              <a:off x="1332000" y="5805360"/>
              <a:ext cx="216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3"/>
            <p:cNvSpPr/>
            <p:nvPr/>
          </p:nvSpPr>
          <p:spPr>
            <a:xfrm>
              <a:off x="539640" y="5661000"/>
              <a:ext cx="64764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6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3780000" y="5805360"/>
              <a:ext cx="20872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2º CIC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de los líp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nsajeros celulares (eicosanoides, derivados de fosfatidilinosit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alance de la Biosínt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 Acetil-CoA  +  7 ATP  +  14 NADPH   +  13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6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638680" y="1219320"/>
            <a:ext cx="289584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LA REGULACION DE LA BIOSI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76720" y="446256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2700360" y="3933720"/>
            <a:ext cx="136692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179280" y="4797360"/>
            <a:ext cx="1873440" cy="863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ni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iltransf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ON DEGRADACION-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fi18p23"/>
          <p:cNvPicPr/>
          <p:nvPr/>
        </p:nvPicPr>
        <p:blipFill>
          <a:blip r:embed="rId2"/>
          <a:stretch/>
        </p:blipFill>
        <p:spPr>
          <a:xfrm>
            <a:off x="1908000" y="1197000"/>
            <a:ext cx="5013360" cy="49831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4"/>
          <p:cNvSpPr/>
          <p:nvPr/>
        </p:nvSpPr>
        <p:spPr>
          <a:xfrm>
            <a:off x="2057400" y="10666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648320" y="10666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Bi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724280" y="16002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4724280" y="25146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4648320" y="47242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4343400" y="5715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334120" y="198108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410080" y="4038480"/>
            <a:ext cx="1067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4114800" y="205740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4038480" y="41911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4724280" y="3429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809880" y="2971800"/>
            <a:ext cx="152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657600" y="5257800"/>
            <a:ext cx="14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502920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6324480" y="5791320"/>
            <a:ext cx="129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9"/>
          <p:cNvSpPr/>
          <p:nvPr/>
        </p:nvSpPr>
        <p:spPr>
          <a:xfrm flipH="1">
            <a:off x="6171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4572000" y="3809880"/>
            <a:ext cx="160020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figuració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167652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590920" y="20574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590920" y="41148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2590920" y="2971800"/>
            <a:ext cx="1218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1828800" y="3809880"/>
            <a:ext cx="160020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nfiguración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1828800" y="2057400"/>
            <a:ext cx="60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7"/>
          <p:cNvSpPr/>
          <p:nvPr/>
        </p:nvSpPr>
        <p:spPr>
          <a:xfrm>
            <a:off x="1752480" y="4267080"/>
            <a:ext cx="762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s-ES" sz="1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8"/>
          <p:cNvSpPr/>
          <p:nvPr/>
        </p:nvSpPr>
        <p:spPr>
          <a:xfrm>
            <a:off x="2590920" y="5181480"/>
            <a:ext cx="914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Rotura tiol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3886200" y="60199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A ó A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ONGACION DE LOS A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228600" y="1600200"/>
            <a:ext cx="2819520" cy="405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 CO -S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6019920" y="1528920"/>
            <a:ext cx="2971800" cy="405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n+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 CO -S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4"/>
          <p:cNvSpPr/>
          <p:nvPr/>
        </p:nvSpPr>
        <p:spPr>
          <a:xfrm>
            <a:off x="4267080" y="1081080"/>
            <a:ext cx="14479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4267080" y="1843200"/>
            <a:ext cx="14479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6"/>
          <p:cNvSpPr/>
          <p:nvPr/>
        </p:nvSpPr>
        <p:spPr>
          <a:xfrm>
            <a:off x="3276720" y="1752480"/>
            <a:ext cx="25146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7"/>
          <p:cNvSpPr/>
          <p:nvPr/>
        </p:nvSpPr>
        <p:spPr>
          <a:xfrm rot="20845200">
            <a:off x="2895120" y="1143000"/>
            <a:ext cx="13716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8"/>
          <p:cNvSpPr/>
          <p:nvPr/>
        </p:nvSpPr>
        <p:spPr>
          <a:xfrm rot="759600">
            <a:off x="2971800" y="1828800"/>
            <a:ext cx="13716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cro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228600" y="3173400"/>
            <a:ext cx="8686800" cy="7621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OSINTESIS DE ACIDOS GRASOS MONOINSATUR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324000" y="4665600"/>
            <a:ext cx="26478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aroil-CoA (18)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643280" y="4589640"/>
            <a:ext cx="26481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leil-CoA (18:1)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250920" y="4110120"/>
            <a:ext cx="27097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 (16)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4572000" y="4073400"/>
            <a:ext cx="3240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leil-CoA (16:1)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3124080" y="428472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3124080" y="481824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8458200" cy="792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OSINTESIS DE ACIDOS GRASOS POLIINSA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24000" y="1125360"/>
            <a:ext cx="30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leil-CoA 18:1 (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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5148360" y="1125360"/>
            <a:ext cx="3744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oleil-CoA 18:2 (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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3564000" y="1413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1"/>
          <p:cNvGrpSpPr/>
          <p:nvPr/>
        </p:nvGrpSpPr>
        <p:grpSpPr>
          <a:xfrm>
            <a:off x="357120" y="2000160"/>
            <a:ext cx="1752480" cy="642600"/>
            <a:chOff x="357120" y="2000160"/>
            <a:chExt cx="1752480" cy="642600"/>
          </a:xfrm>
        </p:grpSpPr>
        <p:sp>
          <p:nvSpPr>
            <p:cNvPr id="363" name="Text Box 12"/>
            <p:cNvSpPr/>
            <p:nvPr/>
          </p:nvSpPr>
          <p:spPr>
            <a:xfrm>
              <a:off x="357120" y="2000160"/>
              <a:ext cx="1752480" cy="64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Linoleil-S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18: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1195200" y="22287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" sz="1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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36 Grupo"/>
          <p:cNvGrpSpPr/>
          <p:nvPr/>
        </p:nvGrpSpPr>
        <p:grpSpPr>
          <a:xfrm>
            <a:off x="5000760" y="1928880"/>
            <a:ext cx="2743200" cy="642600"/>
            <a:chOff x="5000760" y="1928880"/>
            <a:chExt cx="2743200" cy="642600"/>
          </a:xfrm>
        </p:grpSpPr>
        <p:sp>
          <p:nvSpPr>
            <p:cNvPr id="366" name="Text Box 15"/>
            <p:cNvSpPr/>
            <p:nvPr/>
          </p:nvSpPr>
          <p:spPr>
            <a:xfrm>
              <a:off x="5000760" y="1928880"/>
              <a:ext cx="2743200" cy="64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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ó 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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Linolenoil-S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18:3                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"/>
            <p:cNvSpPr/>
            <p:nvPr/>
          </p:nvSpPr>
          <p:spPr>
            <a:xfrm>
              <a:off x="5610240" y="2157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" sz="1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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7"/>
            <p:cNvSpPr/>
            <p:nvPr/>
          </p:nvSpPr>
          <p:spPr>
            <a:xfrm>
              <a:off x="6643800" y="21416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" sz="1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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25"/>
          <p:cNvSpPr/>
          <p:nvPr/>
        </p:nvSpPr>
        <p:spPr>
          <a:xfrm>
            <a:off x="5000760" y="4572000"/>
            <a:ext cx="220968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ido Araquid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0: 4 (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5,8,11,14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2786040" y="207180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a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4116240" y="364320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a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4344840" y="31431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on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38 Conector recto de flecha"/>
          <p:cNvCxnSpPr/>
          <p:nvPr/>
        </p:nvCxnSpPr>
        <p:spPr>
          <a:xfrm>
            <a:off x="2500200" y="2499840"/>
            <a:ext cx="22867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40 Conector recto de flecha"/>
          <p:cNvCxnSpPr/>
          <p:nvPr/>
        </p:nvCxnSpPr>
        <p:spPr>
          <a:xfrm flipH="1">
            <a:off x="6214320" y="2857320"/>
            <a:ext cx="1080" cy="1430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los Fosfolip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beza polar (fosfato + alcoho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a hidrófoba (ácidos gras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squeleto Básic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Glicerol ó Esfingo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5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cido fosfat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 flipH="1">
            <a:off x="3779640" y="3284640"/>
            <a:ext cx="936360" cy="72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7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8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Esfing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7164360" y="3357720"/>
            <a:ext cx="432000" cy="6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icerofosfoli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atidiletanol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atidilc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atidilse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atidilinosi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atidilgli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dioli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sp8431"/>
          <p:cNvPicPr/>
          <p:nvPr/>
        </p:nvPicPr>
        <p:blipFill>
          <a:blip r:embed="rId1"/>
          <a:srcRect l="77517" t="0" r="0" b="47312"/>
          <a:stretch/>
        </p:blipFill>
        <p:spPr>
          <a:xfrm>
            <a:off x="4788000" y="3500280"/>
            <a:ext cx="1944720" cy="15163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7"/>
          <p:cNvGrpSpPr/>
          <p:nvPr/>
        </p:nvGrpSpPr>
        <p:grpSpPr>
          <a:xfrm>
            <a:off x="4643280" y="2781360"/>
            <a:ext cx="2449440" cy="822960"/>
            <a:chOff x="4643280" y="2781360"/>
            <a:chExt cx="2449440" cy="822960"/>
          </a:xfrm>
        </p:grpSpPr>
        <p:sp>
          <p:nvSpPr>
            <p:cNvPr id="389" name="Text Box 8"/>
            <p:cNvSpPr/>
            <p:nvPr/>
          </p:nvSpPr>
          <p:spPr>
            <a:xfrm>
              <a:off x="4643280" y="2781360"/>
              <a:ext cx="2449440" cy="82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OH-CH-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-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9"/>
            <p:cNvSpPr/>
            <p:nvPr/>
          </p:nvSpPr>
          <p:spPr>
            <a:xfrm>
              <a:off x="5651280" y="30700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0"/>
          <p:cNvGrpSpPr/>
          <p:nvPr/>
        </p:nvGrpSpPr>
        <p:grpSpPr>
          <a:xfrm>
            <a:off x="4140360" y="4869000"/>
            <a:ext cx="2952720" cy="822960"/>
            <a:chOff x="4140360" y="4869000"/>
            <a:chExt cx="2952720" cy="822960"/>
          </a:xfrm>
        </p:grpSpPr>
        <p:sp>
          <p:nvSpPr>
            <p:cNvPr id="392" name="Text Box 11"/>
            <p:cNvSpPr/>
            <p:nvPr/>
          </p:nvSpPr>
          <p:spPr>
            <a:xfrm>
              <a:off x="4140360" y="4869000"/>
              <a:ext cx="2952720" cy="82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-CH—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2"/>
            <p:cNvSpPr/>
            <p:nvPr/>
          </p:nvSpPr>
          <p:spPr>
            <a:xfrm>
              <a:off x="5507280" y="51577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4" name="Picture 13" descr="sp6641"/>
          <p:cNvPicPr/>
          <p:nvPr/>
        </p:nvPicPr>
        <p:blipFill>
          <a:blip r:embed="rId2"/>
          <a:srcRect l="75238" t="0" r="0" b="24453"/>
          <a:stretch/>
        </p:blipFill>
        <p:spPr>
          <a:xfrm>
            <a:off x="539640" y="393372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14"/>
          <p:cNvSpPr/>
          <p:nvPr/>
        </p:nvSpPr>
        <p:spPr>
          <a:xfrm>
            <a:off x="3203640" y="6093000"/>
            <a:ext cx="27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fosfatidilgli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ESTRATEGIAS DIFERENTES PARA LA BIOSINTESIS DE FOSFOGLICE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ctivación del esqueleto hidrofo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ctivacion de la cabeza p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84360" y="3429000"/>
            <a:ext cx="806436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ido fosfatídico +  CTP         CDP-diacilglicerol  + 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CDP-ácido fosfatídico-citidil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611280" y="5516640"/>
            <a:ext cx="7920000" cy="459720"/>
            <a:chOff x="611280" y="5516640"/>
            <a:chExt cx="7920000" cy="459720"/>
          </a:xfrm>
        </p:grpSpPr>
        <p:sp>
          <p:nvSpPr>
            <p:cNvPr id="402" name="Text Box 8"/>
            <p:cNvSpPr/>
            <p:nvPr/>
          </p:nvSpPr>
          <p:spPr>
            <a:xfrm>
              <a:off x="611280" y="551664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9"/>
            <p:cNvSpPr/>
            <p:nvPr/>
          </p:nvSpPr>
          <p:spPr>
            <a:xfrm>
              <a:off x="4140360" y="5805360"/>
              <a:ext cx="6476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Line 10"/>
          <p:cNvSpPr/>
          <p:nvPr/>
        </p:nvSpPr>
        <p:spPr>
          <a:xfrm>
            <a:off x="55069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1"/>
          <p:cNvSpPr/>
          <p:nvPr/>
        </p:nvSpPr>
        <p:spPr>
          <a:xfrm>
            <a:off x="5435640" y="6165720"/>
            <a:ext cx="2663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,2 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Biosíntesis de Fosfo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533520" y="1981080"/>
            <a:ext cx="16002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7315200" y="1828800"/>
            <a:ext cx="8380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3520" y="2819520"/>
            <a:ext cx="16002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4191120" y="1752480"/>
            <a:ext cx="14475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icerol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934320" y="2666880"/>
            <a:ext cx="205740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os Fosfo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4038480" y="2514600"/>
            <a:ext cx="1752840" cy="642600"/>
          </a:xfrm>
          <a:prstGeom prst="rect">
            <a:avLst/>
          </a:prstGeom>
          <a:solidFill>
            <a:srgbClr val="f9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IDO FOSFATI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038480" y="3505320"/>
            <a:ext cx="205740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DP-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7086600" y="3429000"/>
            <a:ext cx="182880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atidilinosit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4267080" y="4495680"/>
            <a:ext cx="175284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atidil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6629400" y="4648320"/>
            <a:ext cx="190512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atidil 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4038480" y="5257800"/>
            <a:ext cx="23623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atidiletanol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4419720" y="6095880"/>
            <a:ext cx="175248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atidil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76320" y="5257800"/>
            <a:ext cx="160020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f9f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nol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380880" y="6100920"/>
            <a:ext cx="99072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f9f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6781680" y="5562720"/>
            <a:ext cx="14479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diolip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2819520" y="190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1828800" y="5181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533520" y="12952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EU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708660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EU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4038480" y="1066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EUCARIOTAS Y PRO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1447920" y="609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3124080" y="5181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2438280" y="609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457200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7"/>
          <p:cNvSpPr/>
          <p:nvPr/>
        </p:nvSpPr>
        <p:spPr>
          <a:xfrm>
            <a:off x="3276720" y="58053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D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8"/>
          <p:cNvSpPr/>
          <p:nvPr/>
        </p:nvSpPr>
        <p:spPr>
          <a:xfrm>
            <a:off x="6095880" y="396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G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9"/>
          <p:cNvSpPr/>
          <p:nvPr/>
        </p:nvSpPr>
        <p:spPr>
          <a:xfrm>
            <a:off x="274320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3333ff"/>
                </a:solidFill>
                <a:latin typeface="Arial"/>
              </a:rPr>
              <a:t>Ac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0"/>
          <p:cNvSpPr/>
          <p:nvPr/>
        </p:nvSpPr>
        <p:spPr>
          <a:xfrm>
            <a:off x="5029200" y="2133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2 Ac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1"/>
          <p:cNvSpPr/>
          <p:nvPr/>
        </p:nvSpPr>
        <p:spPr>
          <a:xfrm>
            <a:off x="4191120" y="4038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Se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2"/>
          <p:cNvSpPr/>
          <p:nvPr/>
        </p:nvSpPr>
        <p:spPr>
          <a:xfrm>
            <a:off x="6095880" y="3200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Inosi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>
            <a:off x="1752480" y="54864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3048120" y="5486400"/>
            <a:ext cx="7617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1523880" y="64008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2438280" y="64008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>
            <a:off x="3505320" y="6400800"/>
            <a:ext cx="7617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8"/>
          <p:cNvSpPr/>
          <p:nvPr/>
        </p:nvSpPr>
        <p:spPr>
          <a:xfrm>
            <a:off x="5334120" y="57150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286000" y="2209680"/>
            <a:ext cx="152388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5334120" y="49528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1"/>
          <p:cNvSpPr/>
          <p:nvPr/>
        </p:nvSpPr>
        <p:spPr>
          <a:xfrm>
            <a:off x="7391520" y="51055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2"/>
          <p:cNvSpPr/>
          <p:nvPr/>
        </p:nvSpPr>
        <p:spPr>
          <a:xfrm flipV="1">
            <a:off x="2286000" y="2742840"/>
            <a:ext cx="1600200" cy="30492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3"/>
          <p:cNvSpPr/>
          <p:nvPr/>
        </p:nvSpPr>
        <p:spPr>
          <a:xfrm>
            <a:off x="5181480" y="40384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4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5"/>
          <p:cNvSpPr/>
          <p:nvPr/>
        </p:nvSpPr>
        <p:spPr>
          <a:xfrm>
            <a:off x="5029200" y="21337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5943600" y="2286000"/>
            <a:ext cx="137160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7"/>
          <p:cNvSpPr/>
          <p:nvPr/>
        </p:nvSpPr>
        <p:spPr>
          <a:xfrm>
            <a:off x="5638680" y="3962520"/>
            <a:ext cx="121932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8"/>
          <p:cNvSpPr/>
          <p:nvPr/>
        </p:nvSpPr>
        <p:spPr>
          <a:xfrm>
            <a:off x="7772400" y="22860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9"/>
          <p:cNvSpPr/>
          <p:nvPr/>
        </p:nvSpPr>
        <p:spPr>
          <a:xfrm>
            <a:off x="6248520" y="3581280"/>
            <a:ext cx="68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tabolismo de los Isopreno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250920" y="26370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oprenoides o terp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843280" y="1844640"/>
            <a:ext cx="1944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2916360" y="2997360"/>
            <a:ext cx="24476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idos B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2916360" y="4005360"/>
            <a:ext cx="36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3637080" y="4843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oli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3708360" y="52768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enzima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3564000" y="5780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t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635280" y="630864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iberelinas, ácido absc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5651640" y="1197000"/>
            <a:ext cx="2519280" cy="1368360"/>
            <a:chOff x="5651640" y="1197000"/>
            <a:chExt cx="2519280" cy="1368360"/>
          </a:xfrm>
        </p:grpSpPr>
        <p:sp>
          <p:nvSpPr>
            <p:cNvPr id="464" name="Oval 12"/>
            <p:cNvSpPr/>
            <p:nvPr/>
          </p:nvSpPr>
          <p:spPr>
            <a:xfrm>
              <a:off x="5794200" y="1197000"/>
              <a:ext cx="2303640" cy="13683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13"/>
            <p:cNvGrpSpPr/>
            <p:nvPr/>
          </p:nvGrpSpPr>
          <p:grpSpPr>
            <a:xfrm>
              <a:off x="5651640" y="1341360"/>
              <a:ext cx="2519280" cy="1034640"/>
              <a:chOff x="5651640" y="1341360"/>
              <a:chExt cx="2519280" cy="1034640"/>
            </a:xfrm>
          </p:grpSpPr>
          <p:sp>
            <p:nvSpPr>
              <p:cNvPr id="466" name="Text Box 14"/>
              <p:cNvSpPr/>
              <p:nvPr/>
            </p:nvSpPr>
            <p:spPr>
              <a:xfrm>
                <a:off x="5651640" y="1341360"/>
                <a:ext cx="24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Colestero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5"/>
              <p:cNvSpPr/>
              <p:nvPr/>
            </p:nvSpPr>
            <p:spPr>
              <a:xfrm>
                <a:off x="5722920" y="1916280"/>
                <a:ext cx="24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Hormon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16"/>
          <p:cNvGrpSpPr/>
          <p:nvPr/>
        </p:nvGrpSpPr>
        <p:grpSpPr>
          <a:xfrm>
            <a:off x="5580000" y="2709720"/>
            <a:ext cx="3314880" cy="1224000"/>
            <a:chOff x="5580000" y="2709720"/>
            <a:chExt cx="3314880" cy="1224000"/>
          </a:xfrm>
        </p:grpSpPr>
        <p:sp>
          <p:nvSpPr>
            <p:cNvPr id="469" name="Oval 17"/>
            <p:cNvSpPr/>
            <p:nvPr/>
          </p:nvSpPr>
          <p:spPr>
            <a:xfrm>
              <a:off x="5580000" y="2709720"/>
              <a:ext cx="3313080" cy="12240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5724360" y="2852640"/>
              <a:ext cx="31705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.cólico, desoxicó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Quenodesoxicó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19"/>
          <p:cNvSpPr/>
          <p:nvPr/>
        </p:nvSpPr>
        <p:spPr>
          <a:xfrm>
            <a:off x="5219640" y="4508640"/>
            <a:ext cx="1728720" cy="792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, D, E y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0"/>
          <p:cNvGrpSpPr/>
          <p:nvPr/>
        </p:nvGrpSpPr>
        <p:grpSpPr>
          <a:xfrm>
            <a:off x="144360" y="4724280"/>
            <a:ext cx="3203640" cy="1647720"/>
            <a:chOff x="144360" y="4724280"/>
            <a:chExt cx="3203640" cy="1647720"/>
          </a:xfrm>
        </p:grpSpPr>
        <p:pic>
          <p:nvPicPr>
            <p:cNvPr id="473" name="Picture 21" descr=""/>
            <p:cNvPicPr/>
            <p:nvPr/>
          </p:nvPicPr>
          <p:blipFill>
            <a:blip r:embed="rId7"/>
            <a:stretch/>
          </p:blipFill>
          <p:spPr>
            <a:xfrm>
              <a:off x="144360" y="4724280"/>
              <a:ext cx="320364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22"/>
            <p:cNvSpPr/>
            <p:nvPr/>
          </p:nvSpPr>
          <p:spPr>
            <a:xfrm>
              <a:off x="971280" y="5949720"/>
              <a:ext cx="1346400" cy="42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PR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BIOSINTESIS DE LIPIDOS EN VEGET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2.bp.blogspot.com/_vCeZTM62FUk/TB3ZlcbRGmI/AAAAAAAAAAk/0TGqbA6hAcU/s320/raices.jpg"/>
          <p:cNvPicPr/>
          <p:nvPr/>
        </p:nvPicPr>
        <p:blipFill>
          <a:blip r:embed="rId1"/>
          <a:stretch/>
        </p:blipFill>
        <p:spPr>
          <a:xfrm>
            <a:off x="642960" y="2214720"/>
            <a:ext cx="4095720" cy="3071520"/>
          </a:xfrm>
          <a:prstGeom prst="rect">
            <a:avLst/>
          </a:prstGeom>
          <a:ln w="0">
            <a:noFill/>
          </a:ln>
        </p:spPr>
      </p:pic>
      <p:cxnSp>
        <p:nvCxnSpPr>
          <p:cNvPr id="53" name="7 Conector recto de flecha"/>
          <p:cNvCxnSpPr/>
          <p:nvPr/>
        </p:nvCxnSpPr>
        <p:spPr>
          <a:xfrm>
            <a:off x="4214880" y="2714760"/>
            <a:ext cx="2286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11 CuadroTexto"/>
          <p:cNvSpPr/>
          <p:nvPr/>
        </p:nvSpPr>
        <p:spPr>
          <a:xfrm>
            <a:off x="6500880" y="257184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2 CuadroTexto"/>
          <p:cNvSpPr/>
          <p:nvPr/>
        </p:nvSpPr>
        <p:spPr>
          <a:xfrm>
            <a:off x="6215040" y="42148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ROPLASTI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13 Conector recto de flecha"/>
          <p:cNvCxnSpPr/>
          <p:nvPr/>
        </p:nvCxnSpPr>
        <p:spPr>
          <a:xfrm>
            <a:off x="2857680" y="3857400"/>
            <a:ext cx="30009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15 Conector recto de flecha"/>
          <p:cNvCxnSpPr/>
          <p:nvPr/>
        </p:nvCxnSpPr>
        <p:spPr>
          <a:xfrm>
            <a:off x="2928960" y="4572000"/>
            <a:ext cx="2929680" cy="7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17 CuadroTexto"/>
          <p:cNvSpPr/>
          <p:nvPr/>
        </p:nvSpPr>
        <p:spPr>
          <a:xfrm>
            <a:off x="500040" y="57150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HOJAS, TALLOS Y RAICES: LIPIDOS DE MEMBR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"/>
          <p:cNvPicPr/>
          <p:nvPr/>
        </p:nvPicPr>
        <p:blipFill>
          <a:blip r:embed="rId1"/>
          <a:srcRect l="-2631" t="0" r="2699" b="0"/>
          <a:stretch/>
        </p:blipFill>
        <p:spPr>
          <a:xfrm>
            <a:off x="539640" y="189000"/>
            <a:ext cx="5400720" cy="645948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3"/>
          <p:cNvSpPr/>
          <p:nvPr/>
        </p:nvSpPr>
        <p:spPr>
          <a:xfrm>
            <a:off x="6300720" y="2060640"/>
            <a:ext cx="2590920" cy="3803040"/>
          </a:xfrm>
          <a:prstGeom prst="rect">
            <a:avLst/>
          </a:prstGeom>
          <a:solidFill>
            <a:srgbClr val="f6faa4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rnesil-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mediario de la síntesis de carotenoides, escualeno y de la biosíntesis de esteroles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también un sustrato en la adición de un grupo farnesilo a las proteína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d4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IOSI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ormaciòn de Hidroximetil glutaril-CoA a partir de Acetil-CoA (6 Carbo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versiòn de HMG-CoA en escua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(30 carbo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versión de Escualeno en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 través de 20 reacciones (30 carbo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í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1042920" y="1628640"/>
            <a:ext cx="4681440" cy="1224000"/>
            <a:chOff x="1042920" y="1628640"/>
            <a:chExt cx="4681440" cy="1224000"/>
          </a:xfrm>
        </p:grpSpPr>
        <p:sp>
          <p:nvSpPr>
            <p:cNvPr id="481" name="Text Box 4"/>
            <p:cNvSpPr/>
            <p:nvPr/>
          </p:nvSpPr>
          <p:spPr>
            <a:xfrm>
              <a:off x="1042920" y="18446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Precur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5"/>
            <p:cNvSpPr/>
            <p:nvPr/>
          </p:nvSpPr>
          <p:spPr>
            <a:xfrm>
              <a:off x="3203640" y="1628640"/>
              <a:ext cx="431640" cy="122400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6"/>
            <p:cNvSpPr/>
            <p:nvPr/>
          </p:nvSpPr>
          <p:spPr>
            <a:xfrm>
              <a:off x="3708360" y="1916280"/>
              <a:ext cx="201600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7"/>
          <p:cNvGrpSpPr/>
          <p:nvPr/>
        </p:nvGrpSpPr>
        <p:grpSpPr>
          <a:xfrm>
            <a:off x="5724360" y="1773360"/>
            <a:ext cx="3022920" cy="825480"/>
            <a:chOff x="5724360" y="1773360"/>
            <a:chExt cx="3022920" cy="825480"/>
          </a:xfrm>
        </p:grpSpPr>
        <p:sp>
          <p:nvSpPr>
            <p:cNvPr id="485" name="Text Box 8"/>
            <p:cNvSpPr/>
            <p:nvPr/>
          </p:nvSpPr>
          <p:spPr>
            <a:xfrm>
              <a:off x="6659640" y="177336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9"/>
            <p:cNvSpPr/>
            <p:nvPr/>
          </p:nvSpPr>
          <p:spPr>
            <a:xfrm>
              <a:off x="5724360" y="1773360"/>
              <a:ext cx="792360" cy="360360"/>
            </a:xfrm>
            <a:custGeom>
              <a:avLst/>
              <a:gdLst>
                <a:gd name="textAreaLeft" fmla="*/ 138600 w 792360"/>
                <a:gd name="textAreaRight" fmla="*/ 574560 w 792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0"/>
          <p:cNvGrpSpPr/>
          <p:nvPr/>
        </p:nvGrpSpPr>
        <p:grpSpPr>
          <a:xfrm>
            <a:off x="539640" y="3044880"/>
            <a:ext cx="8064720" cy="1275480"/>
            <a:chOff x="539640" y="3044880"/>
            <a:chExt cx="8064720" cy="1275480"/>
          </a:xfrm>
        </p:grpSpPr>
        <p:pic>
          <p:nvPicPr>
            <p:cNvPr id="488" name="Picture 11" descr="fi19p18"/>
            <p:cNvPicPr/>
            <p:nvPr/>
          </p:nvPicPr>
          <p:blipFill>
            <a:blip r:embed="rId1"/>
            <a:srcRect l="0" t="15842" r="0" b="61571"/>
            <a:stretch/>
          </p:blipFill>
          <p:spPr>
            <a:xfrm>
              <a:off x="4572000" y="3044880"/>
              <a:ext cx="40323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 Box 12"/>
            <p:cNvSpPr/>
            <p:nvPr/>
          </p:nvSpPr>
          <p:spPr>
            <a:xfrm>
              <a:off x="539640" y="321300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3"/>
            <p:cNvSpPr/>
            <p:nvPr/>
          </p:nvSpPr>
          <p:spPr>
            <a:xfrm>
              <a:off x="2843280" y="3573360"/>
              <a:ext cx="165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4"/>
            <p:cNvSpPr/>
            <p:nvPr/>
          </p:nvSpPr>
          <p:spPr>
            <a:xfrm>
              <a:off x="6588000" y="386064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MG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15"/>
          <p:cNvGrpSpPr/>
          <p:nvPr/>
        </p:nvGrpSpPr>
        <p:grpSpPr>
          <a:xfrm>
            <a:off x="1476360" y="4292640"/>
            <a:ext cx="3311640" cy="1579320"/>
            <a:chOff x="1476360" y="4292640"/>
            <a:chExt cx="3311640" cy="1579320"/>
          </a:xfrm>
        </p:grpSpPr>
        <p:sp>
          <p:nvSpPr>
            <p:cNvPr id="493" name="Line 16"/>
            <p:cNvSpPr/>
            <p:nvPr/>
          </p:nvSpPr>
          <p:spPr>
            <a:xfrm flipH="1">
              <a:off x="3059280" y="4292640"/>
              <a:ext cx="172872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7"/>
            <p:cNvSpPr/>
            <p:nvPr/>
          </p:nvSpPr>
          <p:spPr>
            <a:xfrm>
              <a:off x="1476360" y="5229360"/>
              <a:ext cx="1582920" cy="642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uerpos cetó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8"/>
          <p:cNvGrpSpPr/>
          <p:nvPr/>
        </p:nvGrpSpPr>
        <p:grpSpPr>
          <a:xfrm>
            <a:off x="4643280" y="4292640"/>
            <a:ext cx="3168720" cy="1008000"/>
            <a:chOff x="4643280" y="4292640"/>
            <a:chExt cx="3168720" cy="1008000"/>
          </a:xfrm>
        </p:grpSpPr>
        <p:sp>
          <p:nvSpPr>
            <p:cNvPr id="496" name="Line 19"/>
            <p:cNvSpPr/>
            <p:nvPr/>
          </p:nvSpPr>
          <p:spPr>
            <a:xfrm>
              <a:off x="6227640" y="4292640"/>
              <a:ext cx="0" cy="100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0"/>
            <p:cNvSpPr/>
            <p:nvPr/>
          </p:nvSpPr>
          <p:spPr>
            <a:xfrm>
              <a:off x="6443640" y="450864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HMG-CoA reduc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1"/>
            <p:cNvSpPr/>
            <p:nvPr/>
          </p:nvSpPr>
          <p:spPr>
            <a:xfrm>
              <a:off x="4643280" y="4365720"/>
              <a:ext cx="165564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2 NADPH + 2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22"/>
          <p:cNvGrpSpPr/>
          <p:nvPr/>
        </p:nvGrpSpPr>
        <p:grpSpPr>
          <a:xfrm>
            <a:off x="3995640" y="4653000"/>
            <a:ext cx="4824360" cy="1972440"/>
            <a:chOff x="3995640" y="4653000"/>
            <a:chExt cx="4824360" cy="1972440"/>
          </a:xfrm>
        </p:grpSpPr>
        <p:pic>
          <p:nvPicPr>
            <p:cNvPr id="500" name="Picture 23" descr="fi19p18"/>
            <p:cNvPicPr/>
            <p:nvPr/>
          </p:nvPicPr>
          <p:blipFill>
            <a:blip r:embed="rId2"/>
            <a:srcRect l="0" t="68700" r="0" b="10637"/>
            <a:stretch/>
          </p:blipFill>
          <p:spPr>
            <a:xfrm>
              <a:off x="4427640" y="5373720"/>
              <a:ext cx="4392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Text Box 24"/>
            <p:cNvSpPr/>
            <p:nvPr/>
          </p:nvSpPr>
          <p:spPr>
            <a:xfrm>
              <a:off x="6659640" y="616572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Mevalon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5"/>
            <p:cNvSpPr/>
            <p:nvPr/>
          </p:nvSpPr>
          <p:spPr>
            <a:xfrm>
              <a:off x="3995640" y="4941720"/>
              <a:ext cx="201636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A-SH + 2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26"/>
            <p:cNvSpPr/>
            <p:nvPr/>
          </p:nvSpPr>
          <p:spPr>
            <a:xfrm>
              <a:off x="5796000" y="4653000"/>
              <a:ext cx="288720" cy="360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63000 h 360360"/>
                <a:gd name="textAreaBottom" fmla="*/ 261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27"/>
          <p:cNvGrpSpPr/>
          <p:nvPr/>
        </p:nvGrpSpPr>
        <p:grpSpPr>
          <a:xfrm>
            <a:off x="2771640" y="2924280"/>
            <a:ext cx="1656000" cy="1616400"/>
            <a:chOff x="2771640" y="2924280"/>
            <a:chExt cx="1656000" cy="1616400"/>
          </a:xfrm>
        </p:grpSpPr>
        <p:sp>
          <p:nvSpPr>
            <p:cNvPr id="505" name="Text Box 28"/>
            <p:cNvSpPr/>
            <p:nvPr/>
          </p:nvSpPr>
          <p:spPr>
            <a:xfrm>
              <a:off x="3059280" y="292428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HMG-CoA sin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29"/>
            <p:cNvGrpSpPr/>
            <p:nvPr/>
          </p:nvGrpSpPr>
          <p:grpSpPr>
            <a:xfrm>
              <a:off x="2771640" y="3644640"/>
              <a:ext cx="1440000" cy="896040"/>
              <a:chOff x="2771640" y="3644640"/>
              <a:chExt cx="1440000" cy="896040"/>
            </a:xfrm>
          </p:grpSpPr>
          <p:sp>
            <p:nvSpPr>
              <p:cNvPr id="507" name="Text Box 30"/>
              <p:cNvSpPr/>
              <p:nvPr/>
            </p:nvSpPr>
            <p:spPr>
              <a:xfrm>
                <a:off x="2771640" y="3860640"/>
                <a:ext cx="1440000" cy="680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Arial"/>
                  </a:rPr>
                  <a:t>Acetil-CoA+ H</a:t>
                </a:r>
                <a:r>
                  <a:rPr b="1" lang="es-ES" sz="1800" spc="-1" strike="noStrike" baseline="-25000">
                    <a:solidFill>
                      <a:srgbClr val="333399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V="1">
                <a:off x="3132000" y="3644640"/>
                <a:ext cx="432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9" name="Oval 32"/>
          <p:cNvSpPr/>
          <p:nvPr/>
        </p:nvSpPr>
        <p:spPr>
          <a:xfrm>
            <a:off x="6084720" y="4724280"/>
            <a:ext cx="28908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50920" y="2997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HMG-CoA 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"/>
          <p:cNvSpPr/>
          <p:nvPr/>
        </p:nvSpPr>
        <p:spPr>
          <a:xfrm flipV="1">
            <a:off x="3348000" y="2565360"/>
            <a:ext cx="122400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5"/>
          <p:cNvSpPr/>
          <p:nvPr/>
        </p:nvSpPr>
        <p:spPr>
          <a:xfrm rot="20960400">
            <a:off x="2895480" y="2060640"/>
            <a:ext cx="1511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.C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6"/>
          <p:cNvSpPr/>
          <p:nvPr/>
        </p:nvSpPr>
        <p:spPr>
          <a:xfrm>
            <a:off x="3419640" y="3645000"/>
            <a:ext cx="1296720" cy="647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7"/>
          <p:cNvSpPr/>
          <p:nvPr/>
        </p:nvSpPr>
        <p:spPr>
          <a:xfrm rot="1550400">
            <a:off x="2987640" y="4005000"/>
            <a:ext cx="1522440" cy="67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. Alost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"/>
          <p:cNvSpPr/>
          <p:nvPr/>
        </p:nvSpPr>
        <p:spPr>
          <a:xfrm>
            <a:off x="4716360" y="227664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5796000" y="3500280"/>
            <a:ext cx="2376360" cy="1008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idos biliares Colesterol     Mevalo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5724360" y="4797360"/>
            <a:ext cx="2376720" cy="70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dicamentos: Lovast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1"/>
          <p:cNvSpPr/>
          <p:nvPr/>
        </p:nvSpPr>
        <p:spPr>
          <a:xfrm>
            <a:off x="4788000" y="407664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2"/>
          <p:cNvSpPr/>
          <p:nvPr/>
        </p:nvSpPr>
        <p:spPr>
          <a:xfrm>
            <a:off x="4788000" y="1557360"/>
            <a:ext cx="792000" cy="50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5867280" y="1700280"/>
            <a:ext cx="129708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5867280" y="2421000"/>
            <a:ext cx="158436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5"/>
          <p:cNvSpPr/>
          <p:nvPr/>
        </p:nvSpPr>
        <p:spPr>
          <a:xfrm>
            <a:off x="1835280" y="3645000"/>
            <a:ext cx="0" cy="1584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6"/>
          <p:cNvSpPr/>
          <p:nvPr/>
        </p:nvSpPr>
        <p:spPr>
          <a:xfrm>
            <a:off x="684360" y="537372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1979640" y="5589720"/>
            <a:ext cx="172872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8"/>
          <p:cNvSpPr/>
          <p:nvPr/>
        </p:nvSpPr>
        <p:spPr>
          <a:xfrm>
            <a:off x="250920" y="3860640"/>
            <a:ext cx="1728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4419720" cy="5435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755640" y="260280"/>
            <a:ext cx="7632720" cy="7275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RIFICACION DEL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851280" y="299736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1763640" y="3357720"/>
            <a:ext cx="259236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Acil-CoA-colesterol Ac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(AC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4643280" y="342900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l-graso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3564000" y="6165720"/>
            <a:ext cx="2952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r de 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ES Y ACIDOS B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ienen 24 C y 2 ó 3 hidroxi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anfip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entes emulsio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IDOS BILIARES PRIMA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             (Cólico y Quenodesoxico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IDOS BILIARES SECUNDA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Desoxicólico y Litocó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SALES BILIAR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GLICINA Y TAU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Glicocólico ó taurocó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biodisol.com/wp-content/uploads/2008/05/semillas_y_frutos_de_jatropha_curcas_jatropha_seeds.jpg"/>
          <p:cNvPicPr/>
          <p:nvPr/>
        </p:nvPicPr>
        <p:blipFill>
          <a:blip r:embed="rId1"/>
          <a:stretch/>
        </p:blipFill>
        <p:spPr>
          <a:xfrm>
            <a:off x="714240" y="1500120"/>
            <a:ext cx="2857680" cy="218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mercadodelivery.cl/multimedia/fruta.jpg"/>
          <p:cNvPicPr/>
          <p:nvPr/>
        </p:nvPicPr>
        <p:blipFill>
          <a:blip r:embed="rId2"/>
          <a:stretch/>
        </p:blipFill>
        <p:spPr>
          <a:xfrm>
            <a:off x="285840" y="3929040"/>
            <a:ext cx="4093920" cy="2586240"/>
          </a:xfrm>
          <a:prstGeom prst="rect">
            <a:avLst/>
          </a:prstGeom>
          <a:ln w="0">
            <a:noFill/>
          </a:ln>
        </p:spPr>
      </p:pic>
      <p:cxnSp>
        <p:nvCxnSpPr>
          <p:cNvPr id="61" name="4 Conector recto de flecha"/>
          <p:cNvCxnSpPr/>
          <p:nvPr/>
        </p:nvCxnSpPr>
        <p:spPr>
          <a:xfrm>
            <a:off x="3642840" y="2643120"/>
            <a:ext cx="235836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6 Conector recto de flecha"/>
          <p:cNvCxnSpPr/>
          <p:nvPr/>
        </p:nvCxnSpPr>
        <p:spPr>
          <a:xfrm flipV="1">
            <a:off x="4428720" y="4142880"/>
            <a:ext cx="1715400" cy="858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8 Elipse"/>
          <p:cNvSpPr/>
          <p:nvPr/>
        </p:nvSpPr>
        <p:spPr>
          <a:xfrm>
            <a:off x="6215040" y="2714760"/>
            <a:ext cx="2286000" cy="17143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LIPIDOS DE RESE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9 CuadroTexto"/>
          <p:cNvSpPr/>
          <p:nvPr/>
        </p:nvSpPr>
        <p:spPr>
          <a:xfrm>
            <a:off x="3786120" y="36432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ROPLASTI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CLOROPL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euita.upv.es/varios/biologia/images/Figuras_tema11/figura11_18c.jpg"/>
          <p:cNvPicPr/>
          <p:nvPr/>
        </p:nvPicPr>
        <p:blipFill>
          <a:blip r:embed="rId1"/>
          <a:stretch/>
        </p:blipFill>
        <p:spPr>
          <a:xfrm>
            <a:off x="1357200" y="1928880"/>
            <a:ext cx="5610240" cy="3124080"/>
          </a:xfrm>
          <a:prstGeom prst="rect">
            <a:avLst/>
          </a:prstGeom>
          <a:ln w="0">
            <a:noFill/>
          </a:ln>
        </p:spPr>
      </p:pic>
      <p:cxnSp>
        <p:nvCxnSpPr>
          <p:cNvPr id="67" name="4 Conector recto de flecha"/>
          <p:cNvCxnSpPr/>
          <p:nvPr/>
        </p:nvCxnSpPr>
        <p:spPr>
          <a:xfrm>
            <a:off x="3643200" y="4857840"/>
            <a:ext cx="1501200" cy="100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6 CuadroTexto"/>
          <p:cNvSpPr/>
          <p:nvPr/>
        </p:nvSpPr>
        <p:spPr>
          <a:xfrm>
            <a:off x="5286240" y="57150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Biosínteis lipidos membr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ón entre el Metabolismo de los H. de C. y la Biosíntesis de A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ntesis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219320" y="4191120"/>
            <a:ext cx="1066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342900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24852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6172200" y="1371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arni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22200" y="1916280"/>
            <a:ext cx="84978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Acetil-CoA proveniente de hidratos de carbono y aminoácidos es utilizada para la síntesis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50280" y="549360"/>
            <a:ext cx="8916120" cy="947160"/>
          </a:xfrm>
          <a:prstGeom prst="rect">
            <a:avLst/>
          </a:prstGeom>
          <a:solidFill>
            <a:srgbClr val="b9d4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el aporte de nutrientes supera las nece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la cé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3924360" y="1197000"/>
            <a:ext cx="647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racterísticas generales de la Biosíntesis de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252576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biosíntesis de ácidos grasos (lipogénesis)  tiene lugar en el CITOSOL, en plantas en los CLOROPL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 proceso endergónico: Utiliza 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ume equivalentes de reducción : NA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39640" y="5516640"/>
            <a:ext cx="828036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activa cuando el aporte energético es superior a las necesidades de la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95280" y="1773360"/>
            <a:ext cx="82803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uy activa en hígado, glándula ma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91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ácidos  grasos se sintetizan en citosol a partir de acetil-Co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cetil-CoA que se produce en mitocondria debe estar disponible en 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0:20:25Z</dcterms:created>
  <dc:creator>Irma</dc:creator>
  <dc:description/>
  <dc:language>en-US</dc:language>
  <cp:lastModifiedBy>Usuario</cp:lastModifiedBy>
  <dcterms:modified xsi:type="dcterms:W3CDTF">2012-05-28T22:03:08Z</dcterms:modified>
  <cp:revision>200</cp:revision>
  <dc:subject/>
  <dc:title>Diapositiva 1</dc:title>
</cp:coreProperties>
</file>